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01AF-3F8C-4510-B0D6-0EF484200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1B7D-8B60-48CE-A8C3-6E27730C7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C25-6B2A-46DF-83D4-806D718D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5E08-3712-4FCF-BF99-EC5B7F49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7C49-2206-4264-9E44-A3CEA4DE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36D9-5279-4549-965E-51578E22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CED-31D6-46EC-90AD-B19C85C3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5768-34F9-40AA-AADC-E6B77AD2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3AC-FF7D-4CCF-A92C-E792B11A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383-2262-42D3-9859-D8919A9A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C85-A5CF-431A-8AEA-2416A193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98B-02C2-4B2D-AE25-75CB67AE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2894-9A62-431F-A632-338B24B3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400-B80A-4EA8-B24F-5D1CD240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A428-A6D3-474B-A836-5D78059F3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lorence P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i nombre es Florence, yo vivo en la South side  de  Brooklyn. Yo soy catorce ano y tiengo uno hermano y duce hermanas. Soy como feliz, and loca. Adios amigo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Bien pero que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Muy bien y tú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 Buenas dia amigas como esta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Screen Shot 2012-12-05 at 1.24.19 PM.png"/>
          <p:cNvPicPr/>
          <p:nvPr/>
        </p:nvPicPr>
        <p:blipFill>
          <a:blip r:embed="rId12"/>
          <a:stretch/>
        </p:blipFill>
        <p:spPr>
          <a:xfrm>
            <a:off x="76320" y="1219320"/>
            <a:ext cx="14904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8:27:04Z</dcterms:modified>
  <cp:revision>107</cp:revision>
  <dc:subject/>
  <dc:title>Profile</dc:title>
</cp:coreProperties>
</file>